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7DE5-9CED-4282-82F1-22BDE88C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22E-B839-43F9-9CD1-904BCF7A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350-4352-4E43-8AB2-41301587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061-C881-4228-9C7D-86FAAEFB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95D-BD60-4381-9709-20E1F8CF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2370-FAAC-4667-BD39-BE008309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5C3-696D-499B-9DBD-A7A2C3B3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CEE-E79D-4FFE-BD1A-82201B0F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992-11C1-45A1-B8FE-27C66B76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F10-42BB-4F58-B51A-8AC808B3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3C44-A9DF-41A0-8B6E-5C313D67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544-5711-409C-AA38-D39C02F4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13D0-683E-4445-BD43-661196F2DC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s://www.baidu.com/s?rsv_idx=1&amp;tn=site888_3_pg&amp;wd=&#26361;&#25805; &#35266;&#27815;&#28023; / &#30883;&#30707;&#31687;&amp;usm=1&amp;ie=utf-8&amp;rsv_cq=&#25551;&#20889;&#23665;&#30340;&#35799;&#21477;&amp;rsv_dl=0_left_imprecise_28239" TargetMode="External"/><Relationship Id="rId3" Type="http://schemas.openxmlformats.org/officeDocument/2006/relationships/hyperlink" Target="https://www.baidu.com/s?rsv_idx=1&amp;tn=site888_3_pg&amp;wd=&#26361;&#25805; &#35266;&#27815;&#28023; / &#30883;&#30707;&#31687;&amp;usm=1&amp;ie=utf-8&amp;rsv_cq=&#25551;&#20889;&#23665;&#30340;&#35799;&#21477;&amp;rsv_dl=0_left_imprecise_28239" TargetMode="External"/><Relationship Id="rId4" Type="http://schemas.openxmlformats.org/officeDocument/2006/relationships/hyperlink" Target="https://www.baidu.com/s?rsv_idx=1&amp;tn=site888_3_pg&amp;wd=&#26361;&#25805; &#35266;&#27815;&#28023; / &#30883;&#30707;&#31687;&amp;usm=1&amp;ie=utf-8&amp;rsv_cq=&#25551;&#20889;&#23665;&#30340;&#35799;&#21477;&amp;rsv_dl=0_left_imprecise_28239" TargetMode="External"/><Relationship Id="rId5" Type="http://schemas.openxmlformats.org/officeDocument/2006/relationships/hyperlink" Target="https://www.baidu.com/s?rsv_idx=1&amp;tn=site888_3_pg&amp;wd=&#26460;&#29995;+&#26149;&#26395;&amp;usm=1&amp;ie=utf-8&amp;rsv_cq=&#25551;&#20889;&#23665;&#30340;&#35799;&#21477;&amp;rsv_dl=0_left_imprecise_28239" TargetMode="External"/><Relationship Id="rId6" Type="http://schemas.openxmlformats.org/officeDocument/2006/relationships/hyperlink" Target="https://www.baidu.com/s?rsv_idx=1&amp;tn=site888_3_pg&amp;wd=&#26460;&#29995;+&#26149;&#26395;&amp;usm=1&amp;ie=utf-8&amp;rsv_cq=&#25551;&#20889;&#23665;&#30340;&#35799;&#21477;&amp;rsv_dl=0_left_imprecise_28239" TargetMode="External"/><Relationship Id="rId7" Type="http://schemas.openxmlformats.org/officeDocument/2006/relationships/hyperlink" Target="https://www.baidu.com/s?rsv_idx=1&amp;tn=site888_3_pg&amp;wd=&#26460;&#29995;+&#26149;&#26395;&amp;usm=1&amp;ie=utf-8&amp;rsv_cq=&#25551;&#20889;&#23665;&#30340;&#35799;&#21477;&amp;rsv_dl=0_left_imprecise_28239" TargetMode="External"/><Relationship Id="rId8" Type="http://schemas.openxmlformats.org/officeDocument/2006/relationships/hyperlink" Target="https://www.baidu.com/s?rsv_idx=1&amp;tn=site888_3_pg&amp;wd=&#26460;&#29995;+&#26149;&#26395;&amp;usm=1&amp;ie=utf-8&amp;rsv_cq=&#25551;&#20889;&#23665;&#30340;&#35799;&#21477;&amp;rsv_dl=0_left_imprecise_28239" TargetMode="External"/><Relationship Id="rId9" Type="http://schemas.openxmlformats.org/officeDocument/2006/relationships/hyperlink" Target="https://www.baidu.com/s?rsv_idx=1&amp;tn=site888_3_pg&amp;wd=&#26460;&#29995;+&#26149;&#26395;&amp;usm=1&amp;ie=utf-8&amp;rsv_cq=&#25551;&#20889;&#23665;&#30340;&#35799;&#21477;&amp;rsv_dl=0_left_imprecise_28239" TargetMode="External"/><Relationship Id="rId10" Type="http://schemas.openxmlformats.org/officeDocument/2006/relationships/hyperlink" Target="https://www.baidu.com/s?rsv_idx=1&amp;tn=site888_3_pg&amp;wd=&#26460;&#29995;+&#26149;&#26395;&amp;usm=1&amp;ie=utf-8&amp;rsv_cq=&#25551;&#20889;&#23665;&#30340;&#35799;&#21477;&amp;rsv_dl=0_left_imprecise_28239" TargetMode="External"/><Relationship Id="rId11" Type="http://schemas.openxmlformats.org/officeDocument/2006/relationships/hyperlink" Target="https://www.baidu.com/s?rsv_idx=1&amp;tn=site888_3_pg&amp;wd=&#26611;&#23447;&#20803;%20&#27743;&#38634;&amp;usm=1&amp;ie=utf-8&amp;rsv_cq=&#25551;&#20889;&#23665;&#30340;&#35799;&#21477;&amp;rsv_dl=0_left_imprecise_28239" TargetMode="External"/><Relationship Id="rId12" Type="http://schemas.openxmlformats.org/officeDocument/2006/relationships/hyperlink" Target="https://www.baidu.com/s?rsv_idx=1&amp;tn=site888_3_pg&amp;wd=&#26611;&#23447;&#20803;%20&#27743;&#38634;&amp;usm=1&amp;ie=utf-8&amp;rsv_cq=&#25551;&#20889;&#23665;&#30340;&#35799;&#21477;&amp;rsv_dl=0_left_imprecise_28239" TargetMode="External"/><Relationship Id="rId13" Type="http://schemas.openxmlformats.org/officeDocument/2006/relationships/hyperlink" Target="https://www.baidu.com/s?rsv_idx=1&amp;tn=site888_3_pg&amp;wd=&#26611;&#23447;&#20803;%20&#27743;&#38634;&amp;usm=1&amp;ie=utf-8&amp;rsv_cq=&#25551;&#20889;&#23665;&#30340;&#35799;&#21477;&amp;rsv_dl=0_left_imprecise_28239" TargetMode="External"/><Relationship Id="rId14" Type="http://schemas.openxmlformats.org/officeDocument/2006/relationships/hyperlink" Target="https://www.baidu.com/s?rsv_idx=1&amp;tn=site888_3_pg&amp;wd=&#26611;&#23447;&#20803;%20&#27743;&#38634;&amp;usm=1&amp;ie=utf-8&amp;rsv_cq=&#25551;&#20889;&#23665;&#30340;&#35799;&#21477;&amp;rsv_dl=0_left_imprecise_28239" TargetMode="External"/><Relationship Id="rId15" Type="http://schemas.openxmlformats.org/officeDocument/2006/relationships/hyperlink" Target="https://www.baidu.com/s?rsv_idx=1&amp;tn=site888_3_pg&amp;wd=&#26611;&#23447;&#20803;%20&#27743;&#38634;&amp;usm=1&amp;ie=utf-8&amp;rsv_cq=&#25551;&#20889;&#23665;&#30340;&#35799;&#21477;&amp;rsv_dl=0_left_imprecise_28239" TargetMode="External"/><Relationship Id="rId16" Type="http://schemas.openxmlformats.org/officeDocument/2006/relationships/hyperlink" Target="https://www.baidu.com/s?rsv_idx=1&amp;tn=site888_3_pg&amp;wd=&#26611;&#23447;&#20803;%20&#27743;&#38634;&amp;usm=1&amp;ie=utf-8&amp;rsv_cq=&#25551;&#20889;&#23665;&#30340;&#35799;&#21477;&amp;rsv_dl=0_left_imprecise_28239" TargetMode="External"/><Relationship Id="rId17" Type="http://schemas.openxmlformats.org/officeDocument/2006/relationships/hyperlink" Target="https://www.baidu.com/s?rsv_idx=1&amp;tn=site888_3_pg&amp;wd=&#26361;&#25805;%20&#35266;&#27815;&#28023;%20%2F%20&#30883;&#30707;&#31687;&amp;usm=1&amp;ie=utf-8&amp;rsv_cq=&#25551;&#20889;&#23665;&#30340;&#35799;&#21477;&amp;rsv_dl=0_left_imprecise_28239" TargetMode="External"/><Relationship Id="rId18" Type="http://schemas.openxmlformats.org/officeDocument/2006/relationships/hyperlink" Target="https://www.baidu.com/s?rsv_idx=1&amp;tn=site888_3_pg&amp;wd=&#26361;&#25805;%20&#35266;&#27815;&#28023;%20%2F%20&#30883;&#30707;&#31687;&amp;usm=1&amp;ie=utf-8&amp;rsv_cq=&#25551;&#20889;&#23665;&#30340;&#35799;&#21477;&amp;rsv_dl=0_left_imprecise_28239" TargetMode="External"/><Relationship Id="rId19" Type="http://schemas.openxmlformats.org/officeDocument/2006/relationships/hyperlink" Target="https://www.baidu.com/s?rsv_idx=1&amp;tn=site888_3_pg&amp;wd=&#26361;&#25805;%20&#35266;&#27815;&#28023;%20%2F%20&#30883;&#30707;&#31687;&amp;usm=1&amp;ie=utf-8&amp;rsv_cq=&#25551;&#20889;&#23665;&#30340;&#35799;&#21477;&amp;rsv_dl=0_left_imprecise_28239" TargetMode="External"/><Relationship Id="rId20" Type="http://schemas.openxmlformats.org/officeDocument/2006/relationships/hyperlink" Target="https://www.baidu.com/s?rsv_idx=1&amp;tn=site888_3_pg&amp;wd=&#26361;&#25805;%20&#35266;&#27815;&#28023;%20%2F%20&#30883;&#30707;&#31687;&amp;usm=1&amp;ie=utf-8&amp;rsv_cq=&#25551;&#20889;&#23665;&#30340;&#35799;&#21477;&amp;rsv_dl=0_left_imprecise_28239" TargetMode="External"/><Relationship Id="rId21" Type="http://schemas.openxmlformats.org/officeDocument/2006/relationships/hyperlink" Target="https://www.baidu.com/s?rsv_idx=1&amp;tn=site888_3_pg&amp;wd=&#26361;&#25805;%20&#35266;&#27815;&#28023;%20%2F%20&#30883;&#30707;&#31687;&amp;usm=1&amp;ie=utf-8&amp;rsv_cq=&#25551;&#20889;&#23665;&#30340;&#35799;&#21477;&amp;rsv_dl=0_left_imprecise_28239" TargetMode="External"/><Relationship Id="rId2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横卷形 1"/>
          <p:cNvSpPr/>
          <p:nvPr/>
        </p:nvSpPr>
        <p:spPr>
          <a:xfrm>
            <a:off x="179280" y="0"/>
            <a:ext cx="8713800" cy="1268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杜甫的代表性作品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324000" y="1557360"/>
            <a:ext cx="856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望岳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丽人行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》《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兵车行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三吏”：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新安吏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》《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潼关吏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》《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石壕吏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三别”：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新婚别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》《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无家别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》《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垂老别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春望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》《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茅屋为秋风所破歌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》《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登高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等。其作品收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杜诗详注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＜望岳＞帖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179280" y="4653000"/>
            <a:ext cx="8964720" cy="165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首诗是杜甫早期的作品。当时年轻的诗人离开了长安，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兖州去省亲——其父杜闲当时任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州司马。此后大约三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内，他一直在山东、河北一带漫游，结交了不少朋友，这首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就是这期间写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横卷形 1"/>
          <p:cNvSpPr/>
          <p:nvPr/>
        </p:nvSpPr>
        <p:spPr>
          <a:xfrm>
            <a:off x="179280" y="0"/>
            <a:ext cx="8713800" cy="1268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学指导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324000" y="1557360"/>
            <a:ext cx="856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同学们大声朗读古诗，结合工具书和课下注释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了解作者相关文学常识，积累文中生字词并能正确流利地朗诵背诵古诗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成以下问题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钟后期待你的精彩展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横卷形 1"/>
          <p:cNvSpPr/>
          <p:nvPr/>
        </p:nvSpPr>
        <p:spPr>
          <a:xfrm>
            <a:off x="0" y="0"/>
            <a:ext cx="8713800" cy="1268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文常填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24000" y="155736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杜甫，字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代伟大的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诗人，自称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后世尊称为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其诗称为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代表作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3492360" y="170028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子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6156360" y="155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696000" y="220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少陵野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835280" y="227664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现实主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635280" y="2852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诗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5508720" y="350028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春望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1116000" y="3500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诗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539640" y="41497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闻官军收河南河北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横卷形 1"/>
          <p:cNvSpPr/>
          <p:nvPr/>
        </p:nvSpPr>
        <p:spPr>
          <a:xfrm>
            <a:off x="0" y="404640"/>
            <a:ext cx="8713800" cy="1268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注音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岱宗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ài  zōng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夫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ú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凌绝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íng   jué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了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iǎo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泰山明信片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4356000" y="0"/>
            <a:ext cx="4572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朗读要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朗读要注意大胆、大声、大方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注意节奏、停顿正确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泰山明信片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4356000" y="0"/>
            <a:ext cx="4572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望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岱宗夫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齐鲁青未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造化钟神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阴阳割昏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荡胸生曾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决眦入归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会当凌绝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一览众山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900000" y="170028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</a:rPr>
              <a:t>正确译讲古诗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泰山3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岱宗夫如何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齐鲁青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</a:rPr>
              <a:t>未了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2"/>
          <p:cNvSpPr/>
          <p:nvPr/>
        </p:nvSpPr>
        <p:spPr>
          <a:xfrm>
            <a:off x="826920" y="1268280"/>
            <a:ext cx="1584360" cy="750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泰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6"/>
          <p:cNvSpPr/>
          <p:nvPr/>
        </p:nvSpPr>
        <p:spPr>
          <a:xfrm>
            <a:off x="1979640" y="2241720"/>
            <a:ext cx="273672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发语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接箭头连接符 10"/>
          <p:cNvCxnSpPr/>
          <p:nvPr/>
        </p:nvCxnSpPr>
        <p:spPr>
          <a:xfrm>
            <a:off x="2700000" y="1125000"/>
            <a:ext cx="648360" cy="129636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90" name="椭圆 12"/>
          <p:cNvSpPr/>
          <p:nvPr/>
        </p:nvSpPr>
        <p:spPr>
          <a:xfrm>
            <a:off x="3924360" y="2852640"/>
            <a:ext cx="547200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指山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直接箭头连接符 14"/>
          <p:cNvCxnSpPr/>
          <p:nvPr/>
        </p:nvCxnSpPr>
        <p:spPr>
          <a:xfrm>
            <a:off x="5940000" y="1197000"/>
            <a:ext cx="793080" cy="19072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92" name="云形标注 1"/>
          <p:cNvSpPr/>
          <p:nvPr/>
        </p:nvSpPr>
        <p:spPr>
          <a:xfrm>
            <a:off x="6588000" y="1268280"/>
            <a:ext cx="255600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未完，不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55640" y="465300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泰山到底怎么样呢？横跨齐鲁，青色的峰峦连绵不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泰山日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造化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</a:rPr>
              <a:t>钟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神秀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阴阳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</a:rPr>
              <a:t>割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昏晓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1403280" y="2708280"/>
            <a:ext cx="2376720" cy="1079640"/>
          </a:xfrm>
          <a:prstGeom prst="cloudCallout">
            <a:avLst>
              <a:gd name="adj1" fmla="val 32425"/>
              <a:gd name="adj2" fmla="val -8025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聚集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5364000" y="1700280"/>
            <a:ext cx="1729080" cy="649080"/>
          </a:xfrm>
          <a:prstGeom prst="cloudCallout">
            <a:avLst>
              <a:gd name="adj1" fmla="val -1069"/>
              <a:gd name="adj2" fmla="val -11299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接箭头连接符 2"/>
          <p:cNvCxnSpPr/>
          <p:nvPr/>
        </p:nvCxnSpPr>
        <p:spPr>
          <a:xfrm>
            <a:off x="2842920" y="1483920"/>
            <a:ext cx="1080" cy="108180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99" name="椭圆 3"/>
          <p:cNvSpPr/>
          <p:nvPr/>
        </p:nvSpPr>
        <p:spPr>
          <a:xfrm>
            <a:off x="755640" y="1484280"/>
            <a:ext cx="1800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天地、大自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云形 5"/>
          <p:cNvSpPr/>
          <p:nvPr/>
        </p:nvSpPr>
        <p:spPr>
          <a:xfrm>
            <a:off x="3995640" y="2798640"/>
            <a:ext cx="2808360" cy="1278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古人以山北水南为阴，山南水北为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直接箭头连接符 7"/>
          <p:cNvCxnSpPr/>
          <p:nvPr/>
        </p:nvCxnSpPr>
        <p:spPr>
          <a:xfrm>
            <a:off x="5054400" y="1359000"/>
            <a:ext cx="1080" cy="1692720"/>
          </a:xfrm>
          <a:prstGeom prst="straightConnector1">
            <a:avLst/>
          </a:prstGeom>
          <a:ln w="38160">
            <a:solidFill>
              <a:srgbClr val="333399"/>
            </a:solidFill>
            <a:round/>
            <a:tailEnd len="med" type="triangle" w="med"/>
          </a:ln>
        </p:spPr>
      </p:cxnSp>
      <p:sp>
        <p:nvSpPr>
          <p:cNvPr id="102" name="TextBox 1"/>
          <p:cNvSpPr/>
          <p:nvPr/>
        </p:nvSpPr>
        <p:spPr>
          <a:xfrm>
            <a:off x="1042920" y="443700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大自然将神奇和秀丽的景色集中在泰山上，使得山的南北两面，一面明亮一面昏暗，截然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泰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荡胸生曾云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</a:rPr>
              <a:t>决眦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入归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4788000" y="1341360"/>
            <a:ext cx="2376360" cy="1006560"/>
          </a:xfrm>
          <a:prstGeom prst="wedgeEllipseCallout">
            <a:avLst>
              <a:gd name="adj1" fmla="val 6199"/>
              <a:gd name="adj2" fmla="val -8964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收入视野，看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云形 2"/>
          <p:cNvSpPr/>
          <p:nvPr/>
        </p:nvSpPr>
        <p:spPr>
          <a:xfrm>
            <a:off x="7920" y="1197000"/>
            <a:ext cx="2259000" cy="6476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心胸震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直接箭头连接符 6"/>
          <p:cNvCxnSpPr/>
          <p:nvPr/>
        </p:nvCxnSpPr>
        <p:spPr>
          <a:xfrm flipH="1">
            <a:off x="2915640" y="1196640"/>
            <a:ext cx="361080" cy="8643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8" name="横卷形 12"/>
          <p:cNvSpPr/>
          <p:nvPr/>
        </p:nvSpPr>
        <p:spPr>
          <a:xfrm>
            <a:off x="2050920" y="2060640"/>
            <a:ext cx="1729080" cy="100800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同“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755640" y="439884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层云升起，使心胸震荡。张大眼睛远望飞鸟归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直接箭头连接符 6"/>
          <p:cNvCxnSpPr/>
          <p:nvPr/>
        </p:nvCxnSpPr>
        <p:spPr>
          <a:xfrm flipH="1">
            <a:off x="4571280" y="1196640"/>
            <a:ext cx="361080" cy="8643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11" name="横卷形 12"/>
          <p:cNvSpPr/>
          <p:nvPr/>
        </p:nvSpPr>
        <p:spPr>
          <a:xfrm>
            <a:off x="3780000" y="2060640"/>
            <a:ext cx="4105080" cy="252072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眼眶几乎要裂开。这是由于极力张大眼睛远望归鸟入山所致。眦：眼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泰山绝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会当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凌绝顶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览众山小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3933720"/>
            <a:ext cx="8820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有机会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一定要登上泰山的顶峰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一眼望去群山都显得渺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>
            <a:hlinkClick r:id="" action="ppaction://hlinkshowjump?jump=firstslide"/>
          </p:cNvPr>
          <p:cNvSpPr/>
          <p:nvPr/>
        </p:nvSpPr>
        <p:spPr>
          <a:xfrm>
            <a:off x="8244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0" y="1484280"/>
            <a:ext cx="2340000" cy="865080"/>
          </a:xfrm>
          <a:prstGeom prst="cloudCallout">
            <a:avLst>
              <a:gd name="adj1" fmla="val 15319"/>
              <a:gd name="adj2" fmla="val -7880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终当，终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4356000" y="1484280"/>
            <a:ext cx="3672000" cy="2592360"/>
          </a:xfrm>
          <a:prstGeom prst="cloudCallout">
            <a:avLst>
              <a:gd name="adj1" fmla="val -11805"/>
              <a:gd name="adj2" fmla="val -8537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化用孔子的名言：登泰山而小天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横卷形 1"/>
          <p:cNvSpPr/>
          <p:nvPr/>
        </p:nvSpPr>
        <p:spPr>
          <a:xfrm>
            <a:off x="1908000" y="2060640"/>
            <a:ext cx="19814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登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直接箭头连接符 3"/>
          <p:cNvCxnSpPr/>
          <p:nvPr/>
        </p:nvCxnSpPr>
        <p:spPr>
          <a:xfrm>
            <a:off x="2771280" y="1052640"/>
            <a:ext cx="505800" cy="970560"/>
          </a:xfrm>
          <a:prstGeom prst="straightConnector1">
            <a:avLst/>
          </a:prstGeom>
          <a:ln w="38160">
            <a:solidFill>
              <a:srgbClr val="bbe0e3"/>
            </a:solidFill>
            <a:round/>
            <a:tailEnd len="med" type="triangle" w="med"/>
          </a:ln>
        </p:spPr>
      </p:cxnSp>
    </p:spTree>
  </p:cSld>
  <p:transition>
    <p:cover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横卷形 1"/>
          <p:cNvSpPr/>
          <p:nvPr/>
        </p:nvSpPr>
        <p:spPr>
          <a:xfrm>
            <a:off x="179280" y="0"/>
            <a:ext cx="8713800" cy="1268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学指导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324000" y="155736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同学们默读古诗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在理解诗意的基础上赏析名句，理解诗人的志向，感悟诗人高瞻远瞩和积极进取的精神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完成导纲上的问题并形成书面答案。时间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矩形 5"/>
          <p:cNvSpPr/>
          <p:nvPr/>
        </p:nvSpPr>
        <p:spPr>
          <a:xfrm>
            <a:off x="468360" y="130320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全诗围绕一个“望”字，诗人从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角度来描写泰山雄伟的景象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116000" y="35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盼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292720" y="2060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近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1116000" y="2852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细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2556000" y="206064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远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50920" y="1195560"/>
            <a:ext cx="8642160" cy="49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岱宗夫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乍一望见泰山时，那种欣喜惊讶仰慕的情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齐鲁青未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别出心裁的写出自己的欣赏体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造化钟神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阴阳割昏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1042920" y="1486080"/>
            <a:ext cx="360360" cy="2158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50920" y="20019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远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1187280" y="5084640"/>
            <a:ext cx="216000" cy="86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24000" y="49546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近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WordArt 7" descr=""/>
          <p:cNvPicPr/>
          <p:nvPr/>
        </p:nvPicPr>
        <p:blipFill>
          <a:blip r:embed="rId1"/>
          <a:stretch/>
        </p:blipFill>
        <p:spPr>
          <a:xfrm>
            <a:off x="3151080" y="291960"/>
            <a:ext cx="2109960" cy="8478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8"/>
          <p:cNvSpPr/>
          <p:nvPr/>
        </p:nvSpPr>
        <p:spPr>
          <a:xfrm>
            <a:off x="4211640" y="5084640"/>
            <a:ext cx="144360" cy="865440"/>
          </a:xfrm>
          <a:custGeom>
            <a:avLst/>
            <a:gdLst>
              <a:gd name="textAreaLeft" fmla="*/ 0 w 144360"/>
              <a:gd name="textAreaRight" fmla="*/ 52200 w 14436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643280" y="530064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泰山的神奇秀丽、巍峨高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泰山"/>
          <p:cNvPicPr/>
          <p:nvPr/>
        </p:nvPicPr>
        <p:blipFill>
          <a:blip r:embed="rId2"/>
          <a:stretch/>
        </p:blipFill>
        <p:spPr>
          <a:xfrm>
            <a:off x="6084720" y="260280"/>
            <a:ext cx="20876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95280" y="765000"/>
            <a:ext cx="5329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荡胸生曾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决眦入归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会当凌绝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一览众山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1763640" y="981000"/>
            <a:ext cx="144360" cy="935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12720" y="1125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凝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835280" y="2492280"/>
            <a:ext cx="72720" cy="865440"/>
          </a:xfrm>
          <a:custGeom>
            <a:avLst/>
            <a:gdLst>
              <a:gd name="textAreaLeft" fmla="*/ 46440 w 72720"/>
              <a:gd name="textAreaRight" fmla="*/ 73080 w 7272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12720" y="2565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愿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泰山风景"/>
          <p:cNvPicPr/>
          <p:nvPr/>
        </p:nvPicPr>
        <p:blipFill>
          <a:blip r:embed="rId1"/>
          <a:stretch/>
        </p:blipFill>
        <p:spPr>
          <a:xfrm>
            <a:off x="611280" y="3933720"/>
            <a:ext cx="7921440" cy="25909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4500720" y="227664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不止是诗人要攀登泰山极顶的誓言，也是诗人要攀登人生顶峰的誓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4572000" y="981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写出了泰山的阔大景象使自己心胸摇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矩形 5"/>
          <p:cNvSpPr/>
          <p:nvPr/>
        </p:nvSpPr>
        <p:spPr>
          <a:xfrm>
            <a:off x="468360" y="1303200"/>
            <a:ext cx="640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首联是怎样描写泰山的高大形象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6"/>
          <p:cNvSpPr/>
          <p:nvPr/>
        </p:nvSpPr>
        <p:spPr>
          <a:xfrm>
            <a:off x="611280" y="549360"/>
            <a:ext cx="77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中宋"/>
                <a:ea typeface="华文中宋"/>
              </a:rPr>
              <a:t>首联“岱宗夫如何？齐鲁青未了”是怎样描写泰山的高大形象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826920" y="2852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侧面烘托。</a:t>
            </a:r>
            <a:r>
              <a:rPr b="1" lang="zh-CN" sz="4000" spc="-1" strike="noStrike">
                <a:solidFill>
                  <a:srgbClr val="00b0f0"/>
                </a:solidFill>
                <a:latin typeface="Arial"/>
              </a:rPr>
              <a:t>诗人在这一句中自问自答，写远望所见景象。借助齐鲁两地来侧面烘托泰山拔地而起、参天耸立的硕大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矩形 5"/>
          <p:cNvSpPr/>
          <p:nvPr/>
        </p:nvSpPr>
        <p:spPr>
          <a:xfrm>
            <a:off x="468360" y="1303200"/>
            <a:ext cx="640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颔联中“钟”“割”用的好，好在哪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3"/>
          <p:cNvSpPr/>
          <p:nvPr/>
        </p:nvSpPr>
        <p:spPr>
          <a:xfrm>
            <a:off x="2268360" y="69228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二字都用了拟人的修辞手法。“钟”字写出了大自然的多情，将它的神奇秀丽景色全分给了泰山。“割”字写出了泰山“无情”地切断了山的阳光，使山的南北两面阴阳截然不同，也凸显了泰山遮天蔽日的硕大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矩形 2"/>
          <p:cNvSpPr/>
          <p:nvPr/>
        </p:nvSpPr>
        <p:spPr>
          <a:xfrm>
            <a:off x="250920" y="620640"/>
            <a:ext cx="59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如何理解“荡胸生曾云，决眦入归鸟”这句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395280" y="2133720"/>
            <a:ext cx="54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泰山上叠起的层云使自己心胸摇荡，睁大眼睛看着归鸟入林，这句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仅写出了诗人当时专注的神情，也体现了他对祖国大好河山的无限热爱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矩形 2"/>
          <p:cNvSpPr/>
          <p:nvPr/>
        </p:nvSpPr>
        <p:spPr>
          <a:xfrm>
            <a:off x="1042920" y="69228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尾联用的是什么样的手法？同时表现了怎样的哲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324000" y="213372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托物言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句诗字面意思是说诗人要登凌绝顶，俯视众山，实则传达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一个人要有不怕困难、勇攀绝顶的远大志向和积极进取的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"/>
          <p:cNvPicPr/>
          <p:nvPr/>
        </p:nvPicPr>
        <p:blipFill>
          <a:blip r:embed="rId1"/>
          <a:stretch/>
        </p:blipFill>
        <p:spPr>
          <a:xfrm>
            <a:off x="0" y="1324080"/>
            <a:ext cx="4211640" cy="5533920"/>
          </a:xfrm>
          <a:prstGeom prst="rect">
            <a:avLst/>
          </a:prstGeom>
          <a:ln w="0">
            <a:noFill/>
          </a:ln>
        </p:spPr>
      </p:pic>
      <p:sp>
        <p:nvSpPr>
          <p:cNvPr id="164" name="矩形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行楷"/>
                <a:ea typeface="华文行楷"/>
              </a:rPr>
              <a:t>       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这首诗表达了怎样的主题思想？谈谈你的理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4067280" y="1773360"/>
            <a:ext cx="482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全诗围绕“望”字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由远而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由大到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由望岳到想像勇攀顶峰的情景。体现了诗人不怕困难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敢于攀登的雄心和气概，以及蓬勃向上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积极进取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p_large_bwnx_5e18000075712d0d"/>
          <p:cNvPicPr/>
          <p:nvPr/>
        </p:nvPicPr>
        <p:blipFill>
          <a:blip r:embed="rId1"/>
          <a:stretch/>
        </p:blipFill>
        <p:spPr>
          <a:xfrm>
            <a:off x="0" y="-8100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167" name="矩形 1"/>
          <p:cNvSpPr/>
          <p:nvPr/>
        </p:nvSpPr>
        <p:spPr>
          <a:xfrm>
            <a:off x="1187280" y="51768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知识拓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描写“山”的诗句。（两句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468360" y="2060640"/>
            <a:ext cx="899964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万里赴戎机，关山度若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 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《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米兰诗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国破山河在，城春草木深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 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唐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·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杜甫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《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春望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千山鸟飞绝，万径人踪灭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 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唐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·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柳宗元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《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江雪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水何澹澹，山岛竦峙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 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曹操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《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观沧海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_large_bwnx_5e18000075712d0d"/>
          <p:cNvPicPr/>
          <p:nvPr/>
        </p:nvPicPr>
        <p:blipFill>
          <a:blip r:embed="rId1"/>
          <a:stretch/>
        </p:blipFill>
        <p:spPr>
          <a:xfrm>
            <a:off x="0" y="-8100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170" name="矩形 1"/>
          <p:cNvSpPr/>
          <p:nvPr/>
        </p:nvSpPr>
        <p:spPr>
          <a:xfrm>
            <a:off x="1187280" y="51768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评出激情小组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_large_bwnx_5e18000075712d0d"/>
          <p:cNvPicPr/>
          <p:nvPr/>
        </p:nvPicPr>
        <p:blipFill>
          <a:blip r:embed="rId1"/>
          <a:stretch/>
        </p:blipFill>
        <p:spPr>
          <a:xfrm>
            <a:off x="0" y="-8100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172" name="矩形 1"/>
          <p:cNvSpPr/>
          <p:nvPr/>
        </p:nvSpPr>
        <p:spPr>
          <a:xfrm>
            <a:off x="755640" y="549360"/>
            <a:ext cx="8388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当堂训练（答案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造化钟神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阴阳割昏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会当凌绝顶，一览众山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岱宗夫如何？齐鲁青未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7"/>
          <p:cNvPicPr/>
          <p:nvPr/>
        </p:nvPicPr>
        <p:blipFill>
          <a:blip r:embed="rId1"/>
          <a:stretch/>
        </p:blipFill>
        <p:spPr>
          <a:xfrm>
            <a:off x="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0" y="1341360"/>
            <a:ext cx="8280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0000ff"/>
                </a:solidFill>
                <a:latin typeface="Arial"/>
                <a:ea typeface="华文新魏"/>
              </a:rPr>
              <a:t>望岳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       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（唐）杜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横卷形 1"/>
          <p:cNvSpPr/>
          <p:nvPr/>
        </p:nvSpPr>
        <p:spPr>
          <a:xfrm>
            <a:off x="179280" y="0"/>
            <a:ext cx="8713800" cy="1268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250920" y="105264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了解作者相关文学常识，积累文中生字词并能正确流利地朗诵背诵古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理解诗意的基础上赏析名句，理解诗人的志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感悟诗人高瞻远瞩和积极进取的精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杜甫水墨画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5076720" y="260280"/>
            <a:ext cx="3888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杜甫（公元７１２－７７０），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子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诗中自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少陵野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后人称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杜少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他是唐代伟大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现实主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诗人，他的诗篇似一面镜子，广泛而深刻地反映了“安史之乱”前后唐代由盛而衰的真实历史面貌， 因此，他的诗歌被公认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诗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。他本人也被看做一带代宗师，被尊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诗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望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3"/>
          <p:cNvSpPr txBox="1"/>
          <p:nvPr/>
        </p:nvSpPr>
        <p:spPr>
          <a:xfrm>
            <a:off x="4500720" y="404640"/>
            <a:ext cx="4103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杜甫的创作历程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419640" y="2060640"/>
            <a:ext cx="4825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读书和壮游时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长安十年时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三）战乱流离时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四）漂泊西南时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7"/>
          <p:cNvPicPr/>
          <p:nvPr/>
        </p:nvPicPr>
        <p:blipFill>
          <a:blip r:embed="rId1"/>
          <a:stretch/>
        </p:blipFill>
        <p:spPr>
          <a:xfrm>
            <a:off x="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95280" y="2205000"/>
            <a:ext cx="590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杜甫诗三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20:32Z</dcterms:created>
  <dc:creator>MC SYSTEM</dc:creator>
  <dc:description/>
  <dc:language>en-US</dc:language>
  <cp:lastModifiedBy>一个人￡的力量</cp:lastModifiedBy>
  <dcterms:modified xsi:type="dcterms:W3CDTF">2018-04-25T11:49:36Z</dcterms:modified>
  <cp:revision>1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3</vt:lpwstr>
  </property>
</Properties>
</file>